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CB01-D5A9-482E-8144-FB591ECFE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BA7C-8E6D-4C21-9382-2E0A148E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2060-AD35-4B6F-A1A9-ACF29FA17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E5CE-D3CF-4765-837E-8B87F2E12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DBCD-9BD2-49CC-94B7-26D18011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4223-9829-4E7B-9806-1F9860FC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E075-4C5E-4EF3-9CF5-522A0503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C308-A14E-4B0E-8055-282F3C39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887D-8CE0-41DA-82FC-F523C771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0D90-0DAC-42DF-B2A4-D3E5123D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563E-0CB8-44FD-B3B0-90C0EFD8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A9E9-2AED-409C-B483-2B11F806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65E2-8BF5-42F0-981F-85150C9EE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ilele creati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acest titlu gasiti o imagine releva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91132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iua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ati citate bib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ati imagine relevanta cu creatia zilei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iu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ati citate bib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ati imagine relevanta cu creatia zilei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iua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ati citate bib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ati imagine relevanta cu creatia zilei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iua 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ati citate bib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ati imagine relevanta cu creatia zilei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iua 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ati citate bib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ati imagine relevanta cu creatia zilei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iua 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ati citate bib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ati imagine relevanta cu creatia zilei 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iua V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ati citate bib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rati imagine relevanta cu creatia zilei V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12:18:46Z</dcterms:created>
  <dc:creator>owner</dc:creator>
  <dc:description/>
  <dc:language>en-US</dc:language>
  <cp:lastModifiedBy>owner</cp:lastModifiedBy>
  <dcterms:modified xsi:type="dcterms:W3CDTF">2009-07-28T08:17:14Z</dcterms:modified>
  <cp:revision>6</cp:revision>
  <dc:subject/>
  <dc:title>Citat biblic ziua I </dc:title>
</cp:coreProperties>
</file>